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8.jpeg" ContentType="image/jpeg"/>
  <Override PartName="/ppt/media/image22.jpeg" ContentType="image/jpeg"/>
  <Override PartName="/ppt/media/image42.wmf" ContentType="image/x-wmf"/>
  <Override PartName="/ppt/media/image9.png" ContentType="image/png"/>
  <Override PartName="/ppt/media/image40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52D94E63-A2ED-4001-A37E-368DF9F0EC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00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62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 T.Tammet     IT sissejuhatus loeng 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EEB6D867-FA9B-4EDB-B9F5-2FCDDB23E8C3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5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9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49640" y="2057400"/>
            <a:ext cx="253980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a: nominalistide ja realistide dihhotoom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4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5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1600200" y="1139400"/>
            <a:ext cx="1440" cy="16066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00200" y="2968200"/>
            <a:ext cx="1440" cy="16066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600200" y="4797000"/>
            <a:ext cx="1440" cy="16066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 täienduseks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video.google.com/videoplay?docid=-350387730208231144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5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9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1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2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2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>
            <a:off x="2895480" y="1060560"/>
            <a:ext cx="1800" cy="4279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251320" y="2209680"/>
            <a:ext cx="123192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85800" y="685800"/>
            <a:ext cx="6400800" cy="2590920"/>
            <a:chOff x="685800" y="685800"/>
            <a:chExt cx="6400800" cy="2590920"/>
          </a:xfrm>
        </p:grpSpPr>
        <p:grpSp>
          <p:nvGrpSpPr>
            <p:cNvPr id="263" name=""/>
            <p:cNvGrpSpPr/>
            <p:nvPr/>
          </p:nvGrpSpPr>
          <p:grpSpPr>
            <a:xfrm>
              <a:off x="685800" y="838080"/>
              <a:ext cx="4495680" cy="1664640"/>
              <a:chOff x="685800" y="838080"/>
              <a:chExt cx="4495680" cy="1664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85800" y="838080"/>
                <a:ext cx="4495680" cy="160020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5800" y="838080"/>
                <a:ext cx="449568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9840" indent="-3398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39840" indent="-339840">
                  <a:lnSpc>
                    <a:spcPct val="88000"/>
                  </a:lnSpc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932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380880" y="3505320"/>
            <a:ext cx="8534520" cy="3141720"/>
            <a:chOff x="380880" y="3505320"/>
            <a:chExt cx="8534520" cy="3141720"/>
          </a:xfrm>
        </p:grpSpPr>
        <p:grpSp>
          <p:nvGrpSpPr>
            <p:cNvPr id="268" name=""/>
            <p:cNvGrpSpPr/>
            <p:nvPr/>
          </p:nvGrpSpPr>
          <p:grpSpPr>
            <a:xfrm>
              <a:off x="380880" y="3751200"/>
              <a:ext cx="4953240" cy="2895840"/>
              <a:chOff x="380880" y="3751200"/>
              <a:chExt cx="4953240" cy="2895840"/>
            </a:xfrm>
          </p:grpSpPr>
          <p:sp>
            <p:nvSpPr>
              <p:cNvPr id="269" name=""/>
              <p:cNvSpPr/>
              <p:nvPr/>
            </p:nvSpPr>
            <p:spPr>
              <a:xfrm>
                <a:off x="380880" y="3751200"/>
                <a:ext cx="4953240" cy="28958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0880" y="3751200"/>
                <a:ext cx="49532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9840" indent="-3398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39840" indent="-339840">
                  <a:lnSpc>
                    <a:spcPct val="88000"/>
                  </a:lnSpc>
                  <a:tabLst>
                    <a:tab algn="l" pos="0"/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39840" indent="-3398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39840" indent="-3398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7010280" y="3505320"/>
              <a:ext cx="1905120" cy="2558160"/>
              <a:chOff x="7010280" y="3505320"/>
              <a:chExt cx="1905120" cy="2558160"/>
            </a:xfrm>
          </p:grpSpPr>
          <p:pic>
            <p:nvPicPr>
              <p:cNvPr id="2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2840" cy="25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7061040" y="5862600"/>
                <a:ext cx="10670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02520" y="3510000"/>
                <a:ext cx="8128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10280" y="3567240"/>
                <a:ext cx="53352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6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(A =&gt; B) =&gt; A) =&gt; 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9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9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0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2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2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3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3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4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6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7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7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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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korraga esimene ja teine; esimene; järelikult mitte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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